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66B0-DAE1-477A-9976-2C37BF2B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7C1-682B-4781-94BE-22EF9C22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B43-A794-48D7-A9D9-F01E23CC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90C-5F33-45BF-B4FE-7A7FBC69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2C81-447F-40AF-AD7B-8B54BDFB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D63-7673-4533-8BC5-6459497B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911-0304-4050-BF02-B6CA4B58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71CD-36C5-4589-9A02-4E5A2024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295-CCCF-41EF-968A-B0C94FD0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6BB-0832-4B30-86C3-DB37CA5F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70A-848F-4926-B08E-2684D3E9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368B-4BCA-44DB-8799-C3366877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1A54-8688-4815-AACC-7FC5FF4E49D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37:02Z</dcterms:modified>
  <cp:revision>130</cp:revision>
  <dc:subject/>
  <dc:title>Variants of Finite Automata</dc:title>
</cp:coreProperties>
</file>